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457200" y="228708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45720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2"/>
          <p:cNvSpPr>
            <a:spLocks noGrp="1"/>
          </p:cNvSpPr>
          <p:nvPr>
            <p:ph type="subTitle"/>
          </p:nvPr>
        </p:nvSpPr>
        <p:spPr>
          <a:xfrm>
            <a:off x="457200" y="228708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061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8" descr="LOGO"/>
          <p:cNvPicPr/>
          <p:nvPr/>
        </p:nvPicPr>
        <p:blipFill>
          <a:blip r:embed="rId2"/>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Интегрисане академске студије</a:t>
            </a:r>
            <a:r>
              <a:rPr b="0" lang="sr-RS" sz="2800" spc="-1" strike="noStrike">
                <a:solidFill>
                  <a:srgbClr val="000000"/>
                </a:solidFill>
                <a:latin typeface="Arial"/>
              </a:rPr>
              <a:t> медицине</a:t>
            </a:r>
            <a:endParaRPr b="0" lang="en-US" sz="2800" spc="-1" strike="noStrike">
              <a:solidFill>
                <a:srgbClr val="000000"/>
              </a:solidFill>
              <a:latin typeface="Arial"/>
            </a:endParaRPr>
          </a:p>
        </p:txBody>
      </p:sp>
      <p:sp>
        <p:nvSpPr>
          <p:cNvPr id="4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Предмет: Енглески језик</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Предавач: Душица Лазић</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inary Tract Infections</a:t>
            </a:r>
            <a:endParaRPr b="0" lang="en-US" sz="2400" spc="-1" strike="noStrike">
              <a:solidFill>
                <a:srgbClr val="000000"/>
              </a:solidFill>
              <a:latin typeface="Arial"/>
            </a:endParaRPr>
          </a:p>
        </p:txBody>
      </p:sp>
      <p:sp>
        <p:nvSpPr>
          <p:cNvPr id="4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inary tract infections are a serious health problem affecting millions of people each year. Infections of the urinary tract are common – only respiratory infections occur more often. In 1997, urinary tract infections (UTIs) accounted for about 8.3 million doctor visits. Women are especially prone to UTIs for reasons that are poorly understood. One woman in five develops a UTI during her lifetime; UTIs in men are not so common, but they can be very serious when they do occur.</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rinary system consists of the kidneys, ureters, bladder and urethra. The key elements in the system are the kidneys – a pair of purplish-brown organs located below the ribs toward the middle of the back.</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st of the lesson can be found in the textbook “English for Students of Medicine” by Dusica Laz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ds to remember:</a:t>
            </a:r>
            <a:endParaRPr b="0" lang="en-US" sz="2400" spc="-1" strike="noStrike">
              <a:solidFill>
                <a:srgbClr val="000000"/>
              </a:solidFill>
              <a:latin typeface="Arial"/>
            </a:endParaRPr>
          </a:p>
        </p:txBody>
      </p:sp>
      <p:sp>
        <p:nvSpPr>
          <p:cNvPr id="4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idne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et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add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ethr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ethrit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ystit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yelonephriti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hension and discussion questions:</a:t>
            </a:r>
            <a:endParaRPr b="0" lang="en-US" sz="2400" spc="-1" strike="noStrike">
              <a:solidFill>
                <a:srgbClr val="000000"/>
              </a:solidFill>
              <a:latin typeface="Arial"/>
            </a:endParaRPr>
          </a:p>
        </p:txBody>
      </p:sp>
      <p:sp>
        <p:nvSpPr>
          <p:cNvPr id="46"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es the urinary system consist of?</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function of the kidney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role of uret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es the body get rid of its waste produc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es urinary tract infection occu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microorganisms cause urinary tract infectio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are some people more prone to urinary tract infections than oth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urinary tract infections occur in infa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he words from the list below which fit into the following sentences:</a:t>
            </a:r>
            <a:br>
              <a:rPr sz="2400"/>
            </a:br>
            <a:r>
              <a:rPr b="0" lang="en-US" sz="2400" spc="-1" strike="noStrike">
                <a:solidFill>
                  <a:srgbClr val="000000"/>
                </a:solidFill>
                <a:latin typeface="Arial"/>
              </a:rPr>
              <a:t>urethra, prone, urine, contain, prostate, arise</a:t>
            </a:r>
            <a:endParaRPr b="0" lang="en-US" sz="2400" spc="-1" strike="noStrike">
              <a:solidFill>
                <a:srgbClr val="000000"/>
              </a:solidFill>
              <a:latin typeface="Arial"/>
            </a:endParaRPr>
          </a:p>
        </p:txBody>
      </p:sp>
      <p:sp>
        <p:nvSpPr>
          <p:cNvPr id="48"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urinary tract infections..................from one type of bacteria known as Escherichia coli.</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rmal urine................fluids, salts and waste products.</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men are especially......................to UTIs for reasons that are poorly understood.</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mount of....................varies, depending on the fluids and foods a person consumes.</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ections caused by microorganisms called Chlamydia and Mycoplasma tend to remain limited to the urethra and reproductive system.</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men, the....................gland produces secretions that slow bacterial growt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 the words on the left to the corresponding word on the right:</a:t>
            </a:r>
            <a:endParaRPr b="0" lang="en-US" sz="2400" spc="-1" strike="noStrike">
              <a:solidFill>
                <a:srgbClr val="000000"/>
              </a:solidFill>
              <a:latin typeface="Arial"/>
            </a:endParaRPr>
          </a:p>
        </p:txBody>
      </p:sp>
      <p:sp>
        <p:nvSpPr>
          <p:cNvPr id="5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Clea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quency                                                    Ren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kles                                                          Fail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ncture                                                      Swolle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nal                                                           Urinar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ine                                                            Flui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the sentences given below with the following modal verbs:</a:t>
            </a:r>
            <a:br>
              <a:rPr sz="2400"/>
            </a:br>
            <a:r>
              <a:rPr b="0" lang="en-US" sz="2400" spc="-1" strike="noStrike">
                <a:solidFill>
                  <a:srgbClr val="000000"/>
                </a:solidFill>
                <a:latin typeface="Arial"/>
              </a:rPr>
              <a:t>can, could, must, may, might, should, ought to, need</a:t>
            </a:r>
            <a:endParaRPr b="0" lang="en-US" sz="2400" spc="-1" strike="noStrike">
              <a:solidFill>
                <a:srgbClr val="000000"/>
              </a:solidFill>
              <a:latin typeface="Arial"/>
            </a:endParaRPr>
          </a:p>
        </p:txBody>
      </p:sp>
      <p:sp>
        <p:nvSpPr>
          <p:cNvPr id="5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asked if he.................come to my office at two o’cloc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put these books here? Yes, you...............</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e...................see her doctor. She doesn’t feel very wel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believed that he................not do such a terrible th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leave now? No, you.................</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ot go to the library today. I..............do that tomorrow.</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think you...................apologize for what you have just sai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doesn’t know that he......................mention his na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a list of all words that can be used to describe the following:</a:t>
            </a:r>
            <a:endParaRPr b="0" lang="en-US" sz="2400" spc="-1" strike="noStrike">
              <a:solidFill>
                <a:srgbClr val="000000"/>
              </a:solidFill>
              <a:latin typeface="Arial"/>
            </a:endParaRPr>
          </a:p>
        </p:txBody>
      </p:sp>
      <p:sp>
        <p:nvSpPr>
          <p:cNvPr id="5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ec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idne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add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ystiti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late into English:</a:t>
            </a:r>
            <a:endParaRPr b="0" lang="en-US" sz="2400" spc="-1" strike="noStrike">
              <a:solidFill>
                <a:srgbClr val="000000"/>
              </a:solidFill>
              <a:latin typeface="Arial"/>
            </a:endParaRPr>
          </a:p>
        </p:txBody>
      </p:sp>
      <p:sp>
        <p:nvSpPr>
          <p:cNvPr id="56"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Инфекција бешике, позната још као циститис или инфекција уротракта (ИУТ), јесте бактеријска инфекција која изазива болно мокрење и осећај да се бешика никада није сасвим испразнила. Она може изазвати и температуру и бол у крстима. Код инфекције бешике, урин може да има јак мирис и да садржи примесе крви. Неких 80 процената инфекције бешике изазвано је бактеријама из аналне области, пре свега ешерихијом коли, микроорганизмом који обитава у дигестивном тракту. Код мушкараца, инфекција бешике може да се развије нарочито уколико имају увећану простату, али ово обољење углавном напада жене. Жене имају знатно краћу уретру (цев кроз коју урин излази из тела) него мушкарци, па тако бактерије допиру много лакше до бешике жен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9:01:08Z</dcterms:created>
  <dc:creator>User</dc:creator>
  <dc:description/>
  <dc:language>en-US</dc:language>
  <cp:lastModifiedBy>Dusica Lazic</cp:lastModifiedBy>
  <dcterms:modified xsi:type="dcterms:W3CDTF">2012-09-21T18:02:53Z</dcterms:modified>
  <cp:revision>13</cp:revision>
  <dc:subject/>
  <dc:title>Slide 1</dc:title>
</cp:coreProperties>
</file>